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160-8D58-4B3C-8AAB-F4B7978D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5D9-2305-4584-B019-BCF3E322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58A-2ED9-416B-822A-84BAC25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5A1-CB73-475F-AC60-14786520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BD4-0164-4E14-864A-E5CDDFA8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704-6AB2-4F4E-897E-DBA26F42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B37-8053-4B2F-A574-661F02D2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43D-7CC4-447E-90B1-79DFCEE4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895-4446-4860-94FF-5B420EE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38C-87E5-46FE-84B8-349321F4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5D9-938F-4C8A-A553-FFDF12B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8B7-00E5-43B3-BA9E-47D5C16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9B6-49B3-462E-A021-8908519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D443-987E-4D65-ACF8-45A05193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3.html" TargetMode="External"/><Relationship Id="rId2" Type="http://schemas.openxmlformats.org/officeDocument/2006/relationships/hyperlink" Target="http://highered.mcgraw-hill.com/sites/0072943696/student_view0/chapter3/animation__how_translation_work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bosome recognizes the 5’ cap of the mRNA and the mRNA moves through the ribosome from the 5’ to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0920" y="336240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itiator tRNA (with methionine)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ionine tRNA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RNA moves in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 binds to A site, polypeptide is released from P site, and the 2 subunits of the ribosome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vs. Prokary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mplex formed when multiple ribosomes attach to the same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translation and transcription can happen at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lational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ypeptides are folded into their final protei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odificatio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cs.whfreeman.com/thelifewire/content/chp12/120200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highered.mcgraw-hill.com/sites/0072943696/student_view0/chapter3/animation__how_translation_work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information coded in mRNA is translated to a polypept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randed nucleic acid with a cloverlea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on the anticodon arm,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1440" y="1981080"/>
            <a:ext cx="338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acyl-tRNA synthetase enzymes add the correct amino acids to the the 3’ en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NAs deliver the correct amino acid to the growing polypeptide chain by complementary pairing betwe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flexible pairing between the first (5’) base of the anticodon and third (3’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two subunits, large and small, composed of rRNA and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 Binding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minoacyl site): where incoming aminoacyl tRNA b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eptidyl site): where tRNA carries that growing polypept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it site): where tRNA leaves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2-04-24T17:15:08Z</dcterms:modified>
  <cp:revision>101</cp:revision>
  <dc:subject/>
  <dc:title>PowerPoint Presentation</dc:title>
</cp:coreProperties>
</file>